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1A3-EDAA-49CF-92D4-4826B506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960-F23B-42EF-8181-2EDD53C7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4F6-1B55-4ECC-B315-F038CBC7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F89-4A38-4248-8478-12CB4758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E665-4F0C-4CFB-BDB2-2E9844EC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A8E6-604F-4715-B53A-780C9CED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6FF7-A2B4-42DC-8448-436D5853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909-EDD5-4A07-ABE5-61E77D9A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9F67-A9C0-4CC4-855B-8C0DFFC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51D5-B670-49E2-99E5-FFBC41D0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B7A6-FB78-469C-AD1C-1EF47F68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69C-3151-47AE-848C-579DCCDA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4BB7-6DEA-41B5-982C-BBE1D142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5351-3996-4E82-909A-666284F8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24A5-4E9F-4E40-94FE-F256A302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032B-D6F5-45D8-AE47-21805D2E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C659-8636-4FE1-8BB1-557D8316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3E8D-E300-4943-A54B-E8455E39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4D62-E33C-43D9-BCB7-0F1BEE4D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984A-7B26-4A7B-B5FE-255C8088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F1A4-F3A6-49D0-97FE-CFC5548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01367-8940-4DAF-8419-DDFB2E7C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3F2-027F-4681-A181-201408CF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2CCCC-0E70-47F4-9BF5-FEC4FF5E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3ACD-B4DD-42B3-9F3C-19FBFD7E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4090A-5B20-43AF-8FE6-6E63341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E445-4E4B-4A61-927A-24FC9461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C27D-B091-4A77-9B69-E153AC6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6B91-AF62-414B-9242-38485D54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EB3F-550A-4D5A-9CA8-FE3263F0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469C-BD07-41F3-A7CB-A91BEEF8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B741A-00FB-4B55-AC8B-B845A27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9500-C32B-4816-BC8D-5EF48B9A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623-C1F8-47B5-B3F7-D6001BD7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498F-494E-4202-A2D0-DAEED4A0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3E03-CF49-47AB-BAA9-49E11323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48738-A9F9-4BA4-8BFE-4AABC8EA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AC6D-18B9-4CC3-A72E-70AB6D8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DD01-0747-454E-901C-7BB8977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4183-8DAC-45F1-B06A-1CEB891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72D8-07E4-4870-A856-870BB0EA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8F4C-A385-4851-9239-D121933F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F610-E62D-44D0-9290-4FB99DDF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771-3504-41EC-A281-AC71967F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97B-0A03-4117-A95E-37804934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309-C46A-4069-B611-E9066FAA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AAB-E02E-4B16-9807-83B0799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A5E-E3FD-411C-A388-C5FD676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D7E0-B655-438E-A1B6-9332D12E13D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9D1A-6044-4AC8-98F2-22B6C76A101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02F6-6CC0-4337-AAF0-57C44106AAF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248A-A0DF-488F-92BE-E66ACEB35CB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78000" y="615960"/>
            <a:ext cx="8412120" cy="3041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14200" y="349992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оложение о предметной комиссии ГИА-9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nstantia"/>
              </a:rPr>
              <a:t>Член ПК может быть исключен из состава в следующ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оставления о себе недостоверных сведе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ери подотчетных документ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выполнения или ненадлежащего исполнения возложенных на него обязаннос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зникновения конфликта интересов (наличие близких родственников, которые участвуют в ГИА-9 в текущем году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собенности экзамена по  физик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аты проведения экзамена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ой этап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 июня – ОГЭ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39246 чел.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 ГВЭ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2200 че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полнительный этап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6 июня – ОГЭ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должительность экзамена -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3 часа 55 минут (235 минут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экзамене по русскому языку участнику ОГЭ разрешается  пользоваться орфографическим словарем, который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ему предоставят в аудитор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5804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Подготовка дополнительных материалов на экзамене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по русскому язык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 аудитории  должна быть подготовлена аппаратура, которая может  обеспечить качественное воспроизведение аудиозаписи с компакт-диска (формат записи 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p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, орфографический словар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рмативные правовые ак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Федерального уровня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еральный закона от 29.12.2012 № 273-ФЗ «Об образовании в Российской Федерации» (ст. 59 «Итоговая аттестация»)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новления Правительства Российской Федерации от 31.08.2013 № 755 «О федеральной информационной системе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, и приема граждан в образовательные организации для получения среднего профессионального и высшего образования и региональных информационных системах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»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казы Минобрнауки Росси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28.06.2013 № 491 «Об утверждении Порядка аккредитации граждан в качестве общественных наблюдателей при проведении государственной итоговой аттестации по образовательным программам основного общего и среднего общего образования, всероссийской олимпиады школьников и олимпиад школьников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25.12.2013 № 1394 «Об утверждении Порядка проведения государственной итоговой аттестации по образовательным программам основного общего образования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рмативные правовые ак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280" y="1218960"/>
            <a:ext cx="87854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гионального уровн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кон Республики Башкортостан от 01.07.2013 № 696-з «Об образовании в Республике Башкортостан» (ст. 4, пп.4.3.4, 4.3.5, 4.3.6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казы Министерства образования Республики Башкортостан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54756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19.02.2014 № 262 «О проведении на территории Республики Башкортостан государственной итоговой аттестации  по образовательным программам основного общего образования  в 2014 году»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54756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13.03.2014 № 406 «Об утверждении Порядка и сроков  проведения государственной итоговой аттестации по родному языку и родной литературе по образовательным программам основного и среднего общего образования»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ормативные правовые ак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9280" y="1219320"/>
            <a:ext cx="87854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  <a:ea typeface="Arial"/>
              </a:rPr>
              <a:t>Особенности ГИА-9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  <a:ea typeface="Arial"/>
              </a:rPr>
              <a:t>Новый </a:t>
            </a:r>
            <a:r>
              <a:rPr b="0" lang="ru-RU" sz="2200" spc="-1" strike="noStrike">
                <a:solidFill>
                  <a:srgbClr val="ff0000"/>
                </a:solidFill>
                <a:latin typeface="Cambria"/>
                <a:ea typeface="Arial"/>
              </a:rPr>
              <a:t>Порядок разработки КИМ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  <a:ea typeface="Arial"/>
              </a:rPr>
              <a:t>ГИА (формирование по спецификациям в регионе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  <a:ea typeface="Arial"/>
              </a:rPr>
              <a:t>Введение экзаменов по родному языку и родной литературе по выбору обучающихся; </a:t>
            </a:r>
            <a:r>
              <a:rPr b="0" lang="ru-RU" sz="2200" spc="-1" strike="noStrike">
                <a:solidFill>
                  <a:srgbClr val="ff0000"/>
                </a:solidFill>
                <a:latin typeface="Cambria"/>
                <a:ea typeface="Arial"/>
              </a:rPr>
              <a:t>Порядок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  <a:ea typeface="Arial"/>
              </a:rPr>
              <a:t>ГЭК, ПК, КК ГИА-9 создаются без согласования с Рособрнадзором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mbria"/>
                <a:ea typeface="Arial"/>
              </a:rPr>
              <a:t>Передача в ФИС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  <a:ea typeface="Arial"/>
              </a:rPr>
              <a:t>данных (совпадение с ФИС форматов) об ОУ, ППЭ, организаторах, наблюдателях, экспертах, участниках, человеко-тестах, результатах ГИА-9 (полностью матрицу по всем заданиям, первичный балл, оценка)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mbria"/>
                <a:ea typeface="Arial"/>
              </a:rPr>
              <a:t>Шкала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  <a:ea typeface="Arial"/>
              </a:rPr>
              <a:t> переводов утверждается </a:t>
            </a:r>
            <a:r>
              <a:rPr b="0" lang="ru-RU" sz="2200" spc="-1" strike="noStrike">
                <a:solidFill>
                  <a:srgbClr val="ff0000"/>
                </a:solidFill>
                <a:latin typeface="Cambria"/>
                <a:ea typeface="Arial"/>
              </a:rPr>
              <a:t>регионом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  <a:ea typeface="Arial"/>
              </a:rPr>
              <a:t>, по федеральным рекомендация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рядок проведения ГИА-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ы экзамен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форме основного государственного экзамена (далее -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с использованием контрольных измерительных материалов, представляющих собой комплексы заданий стандартизированной фор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форме письменных и устных экзаменов с использованием текстов, тем, заданий, билетов (далее - государственный выпускной экзамен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ВЭ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рядок проведения ГИА-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ИМ для проведения ОГЭ тиражируются  в ОМС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замены проводятся в ППЭ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обучающихся с ограниченными возможностями здоровья  - форма ГВЭ, экзамен проводится с учетом их индивидуальных особенностей (+1,5 часа; ассистент; может ОГЭ или ГВЭ сдавать на дому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уск в ППЭ – по паспорта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заменационные материалы доставляются в ППЭ уполномоченными представителями ГЭК в день проведения экзамена по соответствующему учебному предмет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оверка экзаменационных работ участников ГИА-9 и их оценива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ЦОИ обеспечивает предметные комиссии обезличенными копиями экзаменационных работ обучающих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заменационные работы проверяются двумя экспертами. При расхождении баллов – назначается трет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сперта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прещает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опировать и выносить из помещений ЭР, критерии оценивания, протоколы проверки ЭР, разглашать посторонним лицам информацию, содержащуюся в указанных материал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зультаты в первичных баллах РЦОИ переводит в пятибалльную систему оцени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оложение о предметной комиссии ГИА-9 (ПК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став ПК входят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седатель комиссии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меститель (заместители) председателя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тветственный секретарь (ответственные секретари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члены ПК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спределение работ между членами ПК, определ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кончательных балл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задания экзаменационной работы с развернутым ответом ОГЭ, определ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обходимости проверки третьим экспертом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уществляются автоматизированно, с использованием специализированных аппаратно-программных средст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ЦО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оложение о предметной комиссии ГИА-9 (ПК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Constantia"/>
              </a:rPr>
              <a:t>Член ПК обязан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бъективн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проверять и оценивать  ЭР ОГЭ или ГВЭ в соответствии с требованиями и критерия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фессионально и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добросовестн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ять возложенные на него функции, соблюдать этические и моральные норм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блюдать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конфиденциальность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 порядок обеспечения информационной безопасност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нформировать председателя ПК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 проблемах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возникающих при проверке экзаменационных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езамедлительно информировать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уководство ГЭК в письменной форме о случаях нарушения процедуры проверки ЭР и режима информационной безопасности, а также иных нарушениях в работе с документацией в деятельности ПК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4:36:34Z</dcterms:created>
  <dc:creator>Кот Наталья Алексеевна</dc:creator>
  <dc:description/>
  <dc:language>en-US</dc:language>
  <cp:lastModifiedBy>user</cp:lastModifiedBy>
  <dcterms:modified xsi:type="dcterms:W3CDTF">2014-04-28T06:07:59Z</dcterms:modified>
  <cp:revision>22</cp:revision>
  <dc:subject/>
  <dc:title>Основные результаты ГИА выпускников IX классов общеобразовательных учреждений РБ по химии,  2012 года</dc:title>
</cp:coreProperties>
</file>